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191-54A8-429B-82D1-9293C1F5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BF2-DE1B-40FF-8124-177DA314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97B-E258-444B-8AF0-25B67027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7C5-6228-410C-9E2E-A991B3C4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91A-00DE-476F-B133-A7481889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318-785C-4D09-B1BA-EE1A5924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9DE-6306-41FE-8B74-8024D42B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C06-7B26-49BD-ABBB-43C52B91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4F0-AE8B-4AEF-88A1-B3BC5CFF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B6D-D63F-485E-849B-C207DB42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DBE-097E-4903-B8DB-AF4219BD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0C1-C3B8-4449-B124-769E6731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062F-E077-4834-A2EE-6ED5E5BB7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veling Trunks-Kindergar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y Board and Student Act.-2 geared towards the Classroom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y Esther Smith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DT-74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ject 4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eacher would say to students! I put the problem and matching solution on the same page, if you print them just cut them apart. I always glued pictures like these on construction paper to make them a little more durabl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fter sorting the pictures into the problem or solution columns,  I would ask the children to match each problem with the right solution. I would discuss all the ways these chickens were problem solvers in the story.  This might lead into a writing activity for students on Traveling Tru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nce this story ends with the pigs solving the final problem it would be easy to do a new story as a class, thinking of problems that Natural Resources have with Virtu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veling Trunks. Of course it would be titled Traveling Trunks- A tool for Environmental Education- Natural Resources! The coyede, Wolf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dergarten Story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7053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ory about the Greenstalk’s A Farm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take Owen to story time at our local library.  Today we heard this fun story, it was new to me and I loved it!  It was full of silliness and opportunities for children to join in; but mostly I loved it because it would be wonderful to introduce or practice the story elements – Problem and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ically this story is about the Greenstalk’s – a farm family who run into a myriad of problems, but luckily their flock of chickens always comes to the rescue, until the end of the story.  The events take place through a week, so it is another chance to reinforce the names of the days of the week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shows a  headbands for the characters using pictures like these. Students could make as many chickens as they like to include more children in the re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381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directions are to make a mask. Like a student would say! I would just staple the chicken head onto a paper strip for a headb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001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Teacher would read to students! Here are the farmer, his wife and their two children from the story. There is also a duck and a 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390840" cy="4191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720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eacher would say! After reading this book a few times I would show the children pictures of the problems that occur in the story, and each of the solutions.  After reviewing story elements, I would remind the children that most stories have a problem that needs to be fixed.   I would encourage the children to make two columns of pictures – ones picture that shows a problem, others that depict a solu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4495320"/>
            <a:ext cx="80010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how a problem/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/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3:12:59Z</dcterms:created>
  <dc:creator>CIT</dc:creator>
  <dc:description/>
  <dc:language>en-US</dc:language>
  <cp:lastModifiedBy>CIT</cp:lastModifiedBy>
  <dcterms:modified xsi:type="dcterms:W3CDTF">2012-04-05T03:13:47Z</dcterms:modified>
  <cp:revision>4</cp:revision>
  <dc:subject/>
  <dc:title>Slide 1</dc:title>
</cp:coreProperties>
</file>